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6.wmf" ContentType="image/x-wmf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558-6914-4E3A-B17E-53F0698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286-85AA-4AE2-8596-C934BCB4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37E-3E49-466D-9014-6D0B9A1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5A7-7CF1-478F-9C10-F0B05238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72C-E9DC-47EF-8D28-4F4E9EC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9A2-7F93-4763-87AA-7C27C21C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B78-C1CB-41D4-85E9-AFC99DA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79B-2EF9-47E6-8830-E8C5B61F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FE6-F4A8-447E-AB3D-246947B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4AE-1001-4683-913A-C593FF7A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6D0-A150-4214-93C6-44964E5D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7BF-1B09-404B-BBEA-8565B19B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9080" y="-3240"/>
            <a:ext cx="86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7</a:t>
            </a: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章  应用设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380880"/>
            <a:ext cx="6782040" cy="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1F8D-43C8-4109-8546-E61ED95D95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" Target="slide38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0.xml"/><Relationship Id="rId17" Type="http://schemas.openxmlformats.org/officeDocument/2006/relationships/slide" Target="slide40.xml"/><Relationship Id="rId1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应用设计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1" action="ppaction://hlinksldjump"/>
              </a:rPr>
              <a:t>7.1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4" action="ppaction://hlinksldjump"/>
              </a:rPr>
              <a:t>7.2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程序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7" action="ppaction://hlinksldjump"/>
              </a:rPr>
              <a:t>7.3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　设计实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9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步和初始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51055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有向线段和转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向线段和转移及转移条件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214632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94200" y="3276720"/>
            <a:ext cx="5461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动作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个步表示控制过程中的稳定状态，它可以对应一个或多个动作。可以在步右边加一个矩形框，在框中用简明的文字说明该步对应的动作，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中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表示一个步对应一个动作；图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和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表示一个步对应多个动作，两种方法任选一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59436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使用规则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步与步不能直接相连，必须用转移分开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转移与转移不能直接相连，必须用步分开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步与转移、转移与步之间的连线采用有向线段，画功能图的顺序一般是从上向下或从左到右，正常顺序时可以省略箭头，否则必须加箭头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一个功能图至少应有一个初始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结构形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顺序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支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择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发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循环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复合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顺序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2920" y="2736000"/>
            <a:ext cx="9118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顺序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14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76920" y="2438280"/>
          <a:ext cx="31003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3100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分支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66240" y="62485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选择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441972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发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71800" y="2514600"/>
          <a:ext cx="419112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419112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805200" y="594360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并发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循环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200400" cy="426744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结构用于一个顺序过程的多次或往复执行。功能图画法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这种结构可看作是选择性分支结构的一种特殊情况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2274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27920" y="2454120"/>
            <a:ext cx="5461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并发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复合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440" y="601992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功能流程图举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23040" y="6400800"/>
            <a:ext cx="14637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97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1981080"/>
          <a:ext cx="38098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38098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本章主要内容：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设计的基本知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设计，包括系统设计的步骤和几种常用的设计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，比较详细地介绍在程序设计时功能流程图的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章要求对应用系统设计的方法和步骤掌握会用，重点是掌握程序设计方法中的功能流程图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18360" y="6400800"/>
            <a:ext cx="192564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2.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由功能流程图到程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22096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逻辑函数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流程图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步标志继电器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逻辑函数法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通用辅助继电器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元件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通用辅助继电器的逻辑函数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规则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除第一步外，每一步用一个通用辅助继电器（以下简称继电器）表示本步是否被执行，即步状态。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27988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864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步与继电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执行元件的逻辑函数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别表示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步所对应的动作或输出，可以是执行元件或其他继电器，也可以是指令盒。一般情况下，一个步对应一个动作，当功能流程图中有多个步对应同一个动作时，其输出可用这几个步对应的继电器“或”来表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由每个逻辑函数式中的与或逻辑关系，用串联或并联触点对应线圈的形式画出所有梯级的梯形图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写通用辅助继电器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写执行元件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功能流程图实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起动优先规则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写通用辅助继电器的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19520" y="2590920"/>
          <a:ext cx="520056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90920"/>
                    <a:ext cx="520056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写执行元件的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除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0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00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应同一个执行元件输出触点外，其他每一步对应一个不同的执行元件输出触点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步对应一动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2)=M00.2+M00.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步对应一动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0)=M00.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3)=M00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5)=M00.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1.0)=M0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他输入点的逻辑函数式写法也都用相同方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由逻辑函数式画梯形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66880"/>
            <a:ext cx="7162560" cy="947160"/>
          </a:xfrm>
          <a:prstGeom prst="rect">
            <a:avLst/>
          </a:prstGeom>
          <a:noFill/>
          <a:ln cap="rnd" w="1908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上述逻辑函数式可画出对应的梯形图，如右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为节省篇幅，本程序中的所有标题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都省略，且只列出了部分输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44808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460680" cy="4648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6194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2908440" cy="5715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1840" y="60199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化为梯形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050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478320" cy="5105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9080" y="60958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化为梯形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7.1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系统设计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7.1.1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设计的原则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7.1.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系统设计的步骤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00800"/>
            <a:ext cx="173520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步标志继电器法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62320" y="2057400"/>
          <a:ext cx="40417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041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936840" y="1854360"/>
            <a:ext cx="9118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继电器指令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400" y="1419480"/>
            <a:ext cx="54612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继电器指令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892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87600" y="914400"/>
          <a:ext cx="29574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914400"/>
                    <a:ext cx="29574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5528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254480" y="914400"/>
          <a:ext cx="267984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4480" y="914400"/>
                    <a:ext cx="26798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7.3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　设计实例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1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描述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2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制定控制方案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7" action="ppaction://hlinksldjump"/>
              </a:rPr>
              <a:t>3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系统配置及输入输出对照表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4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设计主电路及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PLC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外部接线图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5" action="ppaction://hlinksldjump"/>
              </a:rPr>
              <a:t>5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设计功能流程图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建立步与继电器对照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逻辑函数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画梯形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描述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系统描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计一个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旋转工作台，其工作示意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三个工位分别完成上料、钻孔和卸件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动作特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上料器推进，料到位后退回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将料夹紧后，钻头向下进给钻孔，下钻到位后退回，退回到位后，工件松开，放松完成后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卸料器向前将加工完成的工件推出，推出到位后退回，退回到位后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通过选择开关可实现自动运行、半自动运行和手动操作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5800" y="59436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工作台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724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制定控制方案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用选择开关来决定控制系统的全自动、半自动运行和手动调整方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手动调整采用按钮点动的控制方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处于半自动工作方式时，每执行完成一个工作循环，用一个起动按钮来控制进入下一次循环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处于全自动运行方式时，可实现自动往复地循环执行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运动不很复杂，采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台电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对于部分与顺序控制和工作循环过程无关的主令部件和控制部件，采用不进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方法以节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数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由于点数不多，所以用中小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以实现。可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 22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与扩展模块，或用一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 22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配置及输入输出对照表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7.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输入信号对照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695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出信号对照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934320" cy="2363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设计主电路及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PLC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外部接线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70720" y="2289960"/>
            <a:ext cx="54612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接线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2396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90920" y="1905120"/>
          <a:ext cx="40957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0957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部接线的示意图，实际接线时，还应考虑到以下几个方面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应有电源输入线，通常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20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0Hz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流电源，允许电源电压有一定的浮动范围。并且必须有保护装置，如熔断器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输入和输出端子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为一组共用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端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输出端的线圈和电磁阀必须加保护电路，如并接阻容吸收回路或续流二极管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1.1 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设计的原则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可编程序控制器控制系统的设计中，应该最大限度地满足生产机械或生产流程对电气控制的要求，在满足控制要求的前提下，力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系统简单、经济、安全、可靠、操作和维修方便，而且应使系统能尽量降低使用者长期运行的成本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计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系统有多种途径：可以在原有的继电接触控制系统基础上加以改造，形成可编程序控制器的控制系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19800" y="6400800"/>
            <a:ext cx="1390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851600" y="2222280"/>
            <a:ext cx="5461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功能流程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0484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828800" y="533520"/>
          <a:ext cx="5715000" cy="62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715000" cy="62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60800" y="1617480"/>
            <a:ext cx="6678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设计功能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41840" y="59436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手动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9072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912960"/>
          <a:ext cx="883944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2960"/>
                    <a:ext cx="883944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建立步与继电器对照表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28800" y="2438280"/>
          <a:ext cx="6400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6400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506040" y="20304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.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通用继电器对照表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写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本功能流程图写逻辑函数式时，采用关断优先规则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继电器函数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始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手动调整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手动操作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和半自动调整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执行元件函数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8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画梯形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将所有函数式写出后，很容易就可以用编程软件做出梯形图。梯形图完成后便可以将可编程序控制器与计算机连接，把程序及组态数据下装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调试，程序无误后即可结合施工设计将系统用于实际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607392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结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1.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系统设计的步骤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熟悉被控对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定控制方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详细描述控制对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详细描述操作员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配置可编程序控制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19800" y="6400800"/>
            <a:ext cx="1390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7.2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　程序设计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22096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7.2.1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　功能流程图概述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7.2.2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由功能流程图到程序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的内容包括：编写程序、编译程序、模拟运行及调试程序等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的方法是指用什么方法和编程语言来编写用户程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有多种方法：如果控制系统是改造原有成熟的继电接触控制系统，则可由电气控制电路图很容易地转化为梯形图，生成控制程序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节主要介绍功能流程图法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2.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功能流程图概述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流程图，简称功能图，又叫状态流程图或状态转移图。它是专用于工业顺序控制程序设计的一种功能说明性语言，能完整地描述控制系统的工作过程、功能和特性，是分析、设计电气控制系统控制程序的重要工具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组成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步是控制系统中的一个相对不变的性质，它对应于一个稳定的状态。在功能流程图中步通常表示某个执行元件的状态变化。步用矩形框表示，框中的数字是该步的编号，编号可以是该步对应的工步序号，也可以是与该步相对应的编程元件（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部的通用辅助继电器、步标志继电器等）。步的图形符号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初始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初始步对应于控制系统的初始状态，是系统运行的起点。一个控制系统至少有一个初始步，初始步用双线框表示，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7:49:27Z</dcterms:created>
  <dc:creator>新人电脑</dc:creator>
  <dc:description/>
  <dc:language>en-US</dc:language>
  <cp:lastModifiedBy>li</cp:lastModifiedBy>
  <dcterms:modified xsi:type="dcterms:W3CDTF">2002-02-01T03:35:35Z</dcterms:modified>
  <cp:revision>32</cp:revision>
  <dc:subject/>
  <dc:title>第7章  应用设计 </dc:title>
</cp:coreProperties>
</file>